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56F-C8CC-4FC2-8D81-A780E271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EAB-DB76-45E1-A66C-2468193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658-E15E-4987-82AD-E06C264E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AAF-55AD-4245-8293-23ED9971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548-8904-4176-9863-CED58592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E892-6A35-4BBD-A648-A2768BEA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E3A-96CB-4731-A288-DD7C63E8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B69-5BD0-4B2A-9B1F-59FCBEB3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03F4-66FD-4297-8713-A42931B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9425-3A95-4104-B914-D89CC2D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A86-3501-44B3-A39A-55DFD9F2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630-D3BC-4F92-BDC0-D1A7AC34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7087-180D-48DC-BD84-76AE13A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DFA8-73B2-4064-A4E1-C4660A2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9B82-03D0-4561-809C-DAC7299C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93D8-6844-486C-9006-A977171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B9B-880E-47B1-B987-999809F9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5FF3-81D3-40A1-94EC-DA03E939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00BE-004C-4577-86CE-3442F591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EBEB-D5AD-4D97-94D5-F86F540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A9A3-03AA-475A-A726-86BFDC2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B45D-31BB-47A5-B0DB-5789E9C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CB5-1A24-447E-B131-0C3F792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F472-A0D0-46EF-9108-222967A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1E3E-B730-4707-8F10-25C002B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D058-3FAD-4905-AEA7-2B1E9C0D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F0DC-4A07-41B0-9CF4-DAAC56A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CD45-46B3-4DFC-B030-D23AF43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A884-48CD-434E-AC7D-222B29C9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88A2-50AE-49B6-8E05-BA3C6DB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489F-1B3B-43B4-A908-FBD5880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5515-BE4D-4D8B-AED8-591203E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779B-3D34-4D2C-8990-2C7B321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B2A-474E-4994-9C7E-B9CA58DF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AB5D-757E-44BF-ACBA-925CA158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9918-3E0B-49FA-B47A-BF5F0EA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F415-CE59-4C06-8DCB-8362076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1665-B4BB-4FBD-93CE-E9CBB52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9DEE-0E96-455B-AC1C-8E0D414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1261-E7F3-45FD-AAF5-ADD0F89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3A28-64EE-49F6-A82B-533E6DE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3752-BB86-483A-B44B-80BE3057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38D5-C4ED-439B-A96F-040F6C06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112B-FE9F-422D-B50C-97B028AA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B7E-C26C-4225-A6BD-6B0A2D8F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EFD15-CC83-4B96-9CE2-093129D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586D-D3AC-4A1E-A6F7-959BA14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8BE4-6B49-4D9A-94AD-53953F0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964E-11AF-4CC2-8036-9F5522B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BD9C-27BD-4499-A6AA-CF1FC182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A4A1-3E49-44CE-8615-318D549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EE17-665F-442E-AEAF-93C118F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41DF-40FB-4C59-AE3B-38B36BE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B15D-D249-4A68-A0AF-28C8D55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DDE3-3FA4-48B9-ACD4-F984B98D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EE6-8900-476B-9135-C7A1D81A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92A8-8339-4A9B-A206-387F16CC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E962-4185-45FB-9E92-15084155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AF3CE-3640-4774-81AA-B1B7D51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F472-5505-476C-8E37-06D5607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3E9B-0F58-4DCC-9777-5A64642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1A13-693F-4FF4-8C55-1048B32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DE60-F4A9-438E-959C-F4BE6B73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CBFE-3567-4C4E-92DA-BC4BD77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0339-1B9D-4542-ACBD-3A874F2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AE62-EF4A-4038-B15E-33C3872C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ABE-8904-42D9-941D-508163B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A84D-DED4-44BC-816A-1C0DEAE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302C-66B0-4847-8047-7D8A3F64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A3FA-A753-4FF0-AAB5-E5B92901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9AAE-9F09-4D50-A027-429C96B4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DF44-51CC-43ED-B6BF-17469EA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C941-6C99-4D8F-9E07-F180D6ED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D0DD0-6224-48A8-95EA-75F5788E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3C15-522F-461E-ABAC-E7CD6E89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F197B-FAC9-4472-83A0-3486510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E4D8-5FAE-449E-9FB6-9E1F530A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BBC-71EA-4718-9944-A549B72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1A3D-E7D6-477D-89C2-AEB2BCF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61E9-B5C0-436E-863F-3BA65E2B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8671-71A7-4805-9892-31CA40D9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DACC-34E8-4ACA-8914-D84E6953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70FB-0B2E-416A-A743-5DAEB1D0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522-B35A-44CB-BD65-A7458FE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2C6A-A3AC-4B1B-B7EA-CAF421662D6A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4151-FA1E-4190-A5ED-BFCAFF67418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B1DD-7EDC-43BA-A0B8-AAD37FFA92C9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28C-4D95-4DED-93A4-D1EF0044400F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60B-14B1-40F0-B7B7-63542B4C91EF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067-A0D2-4E20-A78E-FE63467D86F9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CBB1-D0AA-4353-990E-D07B0BEC87E0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664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a waste of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Playing the lottery is very addic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not really a great chance to make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Reason #1: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Supporting Detail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Reasons + Supporting Details: </a:t>
            </a:r>
            <a:br>
              <a:rPr sz="3000"/>
            </a:br>
            <a:r>
              <a:rPr b="0" lang="en-CA" sz="3600" spc="-1" strike="noStrike">
                <a:solidFill>
                  <a:srgbClr val="000000"/>
                </a:solidFill>
                <a:latin typeface="Corbel"/>
              </a:rPr>
              <a:t>Lotteries are a waste of money.  Every time we buy a lottery ticket, we have less money to buy things we need such as food or clothin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Cloud 3"/>
          <p:cNvSpPr/>
          <p:nvPr/>
        </p:nvSpPr>
        <p:spPr>
          <a:xfrm>
            <a:off x="23760" y="2135160"/>
            <a:ext cx="2879640" cy="2303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455760" y="242244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ies are a waste of mo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4" name="Straight Arrow Connector 6"/>
          <p:cNvCxnSpPr/>
          <p:nvPr/>
        </p:nvCxnSpPr>
        <p:spPr>
          <a:xfrm>
            <a:off x="3276720" y="3760560"/>
            <a:ext cx="1224720" cy="108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Cloud 8"/>
          <p:cNvSpPr/>
          <p:nvPr/>
        </p:nvSpPr>
        <p:spPr>
          <a:xfrm>
            <a:off x="4829040" y="1976400"/>
            <a:ext cx="4104000" cy="26211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bb76d"/>
          </a:solidFill>
          <a:ln w="47880">
            <a:solidFill>
              <a:srgbClr val="4d86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5543640" y="25765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ess money to buy thin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 #2: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+ Supporting Det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Playing the lottery is severely addictive.  When you buy a lottery ticket and don’t win, we may want to buy more and more ticke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Cloud 3"/>
          <p:cNvSpPr/>
          <p:nvPr/>
        </p:nvSpPr>
        <p:spPr>
          <a:xfrm>
            <a:off x="755640" y="2492280"/>
            <a:ext cx="3024360" cy="115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984240" y="280656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y Addi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Cloud 5"/>
          <p:cNvSpPr/>
          <p:nvPr/>
        </p:nvSpPr>
        <p:spPr>
          <a:xfrm>
            <a:off x="5364000" y="2492280"/>
            <a:ext cx="3311640" cy="1584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5796000" y="26845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aven’t won yet….Need more ticke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3" name="Straight Arrow Connector 8"/>
          <p:cNvCxnSpPr/>
          <p:nvPr/>
        </p:nvCxnSpPr>
        <p:spPr>
          <a:xfrm>
            <a:off x="3924360" y="3284280"/>
            <a:ext cx="1080000" cy="108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 #3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    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+ 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not really a good chance to make money.  We can’t use our skills or abilities to win the lottery.  The only thing we can depend on is luck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Cloud 3"/>
          <p:cNvSpPr/>
          <p:nvPr/>
        </p:nvSpPr>
        <p:spPr>
          <a:xfrm>
            <a:off x="250920" y="2421000"/>
            <a:ext cx="316872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042920" y="2576520"/>
            <a:ext cx="20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ot a good chance to make 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Cloud 5"/>
          <p:cNvSpPr/>
          <p:nvPr/>
        </p:nvSpPr>
        <p:spPr>
          <a:xfrm>
            <a:off x="5076720" y="2421000"/>
            <a:ext cx="374328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5508720" y="2781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Depends on luc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0" name="Straight Arrow Connector 8"/>
          <p:cNvCxnSpPr/>
          <p:nvPr/>
        </p:nvCxnSpPr>
        <p:spPr>
          <a:xfrm>
            <a:off x="3564000" y="3176280"/>
            <a:ext cx="1224720" cy="1080"/>
          </a:xfrm>
          <a:prstGeom prst="straightConnector1">
            <a:avLst/>
          </a:prstGeom>
          <a:ln w="478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Firstly, in my opinion 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Lotteries are a waste of money.  Every time we buy a lottery ticket, we have less money to buy things we need such as food or cloth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In addition, I think 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laying the lottery is severely addictive.  When you buy a lottery ticket and don’t win, we may want to buy more and more ticke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Finally, in my point of view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, Lotteries are not really a good chance to make money.  We can’t use our skills or abilities to win the lottery.  The only thing we can depend on is luck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To sum up, for these reasons I believe that banning the lottery is a good ide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0000"/>
                </a:solidFill>
                <a:latin typeface="Corbel"/>
              </a:rPr>
              <a:t>An Opinion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rbel"/>
              </a:rPr>
              <a:t>A thought or belief about something or someon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ake a stand on a given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Have an opin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Choose to either 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AGREE or DISAGREE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 with the statement or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Topic Sentence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howing whether you agree or disagree with the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and Supporting Detail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examples or evidence to show your agreement or disagre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A Concluding Statement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ummarizing the main reasons or restating the topic sentence in different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introduction/topic sent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gree/disagree with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gree/disagree tha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m for/against the idea that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There are….reasons why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reasons (Transition Signals, Sentence Connector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he first (second, third) reason is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Another reason 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irst (Firstly), Second (Secondl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urthermore, In Ad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n 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o sum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o conclu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ample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he Topic: 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The Lottery Should be Bann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 completely agree that all lotteries should be ban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Cloud 3"/>
          <p:cNvSpPr/>
          <p:nvPr/>
        </p:nvSpPr>
        <p:spPr>
          <a:xfrm>
            <a:off x="3564000" y="2637000"/>
            <a:ext cx="295272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Cloud 4"/>
          <p:cNvSpPr/>
          <p:nvPr/>
        </p:nvSpPr>
        <p:spPr>
          <a:xfrm>
            <a:off x="5724360" y="4508640"/>
            <a:ext cx="295128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Cloud 5"/>
          <p:cNvSpPr/>
          <p:nvPr/>
        </p:nvSpPr>
        <p:spPr>
          <a:xfrm>
            <a:off x="758880" y="4941720"/>
            <a:ext cx="2951280" cy="151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4176720" y="291636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Waste of Mo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300720" y="478800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y Addi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1117440" y="526572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ot great odds to make 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3:12:01Z</dcterms:created>
  <dc:creator>Jason</dc:creator>
  <dc:description/>
  <dc:language>en-US</dc:language>
  <cp:lastModifiedBy>Jason</cp:lastModifiedBy>
  <dcterms:modified xsi:type="dcterms:W3CDTF">2011-04-07T14:11:56Z</dcterms:modified>
  <cp:revision>5</cp:revision>
  <dc:subject/>
  <dc:title>Unit 2- Developing Writing Skills  4.1 Writing Opinion/Persuasive Pieces</dc:title>
</cp:coreProperties>
</file>